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1FA3-BD52-4EC5-AB22-7C3078E8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01AA-D00C-46E0-AA9E-2A20CB3F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7189-751E-46A2-8A84-8D4868F1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B313-21BD-4B3D-A2EE-838C07F8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C411-10D7-4A81-902F-2FB29582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1607-04F2-4033-926D-5597E861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A3AE-6C2D-4AB1-B3F2-43F8874F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CFB0-34D4-4F39-A4A6-4630B6BD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B59D-20BB-49C7-87A4-4BFBBF45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A16F-9974-43F0-9194-C76DF65A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E2C9-DD5E-471A-BC44-0766FCB8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E859-26BF-44BF-88C7-F9B1A82C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A170-07A7-40BD-9C27-317B7A05B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7 il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4 de en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37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A ti te gusta la mus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798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mes mucho cuando estas enfermo(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ienes mucho apetito cuando estas enfermo(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Tomas muchos líquidos cuando estas enfermo(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Guardas cama cuando estas enfermo(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responde e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58 (1-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58 (1-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 muchacho enferm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60 (1-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BOO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p.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28600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area # 37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00:39:42Z</dcterms:created>
  <dc:creator>Helen Zumaeta</dc:creator>
  <dc:description/>
  <dc:language>en-US</dc:language>
  <cp:lastModifiedBy>Helen Zumaeta</cp:lastModifiedBy>
  <dcterms:modified xsi:type="dcterms:W3CDTF">2013-01-04T14:50:41Z</dcterms:modified>
  <cp:revision>18</cp:revision>
  <dc:subject/>
  <dc:title>Me llamo ________ Clase 7 im La fecha es el 13 de mayo del 2011</dc:title>
</cp:coreProperties>
</file>